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611-73A3-47D9-A42B-41A3FEC8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939-36CB-46A9-82E8-8E17D3B7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366-34F8-4FCB-AD07-73B238DD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622-D01C-4B8C-9606-46FADC62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9A4B-8832-4A00-ADCC-AFE60970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E265-7C34-4B20-B271-48C5EF81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CAD8-E875-4238-8370-37C2548D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47A4-CD9B-44DF-9157-4940AF3C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89F6-A37B-4571-8419-FCBE0414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4263-38C0-40B1-A04C-4CA52113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2519-D3C8-4CD7-BDAE-595EE4D2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51A-1AEC-4A99-BD4C-A95B3506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96ED-4665-4EAB-9B7A-B04E66F7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1C24-98ED-4BDA-AF3F-D125FC2C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AA6A-CBC8-40EF-8AC9-CB7BBE9D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0288-F7BC-4240-963B-44C8AEB0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BEAB-02F5-4898-A5B8-9F3E84CA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FB44F-154E-438D-BB57-E4B482BA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6C5A-C0AF-48A9-B8DD-2C477D68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E36B-E9B5-4743-9DD2-B1D502D6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51CB1-DE16-4734-B1B1-BF537EC2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56EB-D38D-40FF-85CA-0F2EBBEE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754-6F3E-473C-807A-9CEE01FC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FE34-27D2-4EB0-BDEF-EA408B26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8C32-77AB-4799-934A-1C95B419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4672C-2594-4103-833B-B7D111F3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DCF8-A4E6-4697-8DDC-89285998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77D53-68EC-4247-8B9F-415D9F2C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6FA1-EC26-4DC6-8D21-EAD1ABC1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25A8-8464-4E98-8469-4D26303F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1090C-AAC9-4AB4-BEF6-862B4647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29FB2-C2B3-4EC9-88F6-08DC1B2A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61F95-9812-4430-A82C-CC9F1A8C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FA5-3B6D-45EE-81A9-0B948B59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F2D99-9557-4298-AE3F-CAC969D4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BA91A-2D04-40B7-8252-2A825FD5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A34CB-2E2A-4E6C-AEFA-1CD12A5F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5010A-1A30-40C1-9755-C1F53EE7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6D91A-A67F-4DEB-A87D-C6A5E2C4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CA2DA-221A-413C-A9F3-122D9817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E648F-D469-4E29-9E6B-717D23DE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8A897-9DFD-4122-A717-BB7909BF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A570D-75E4-4A1F-B26A-B8296B96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A015B-0480-4C86-8D2B-AD12D34D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210-CCD5-4830-92F4-9B2D6C00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859E9-39E8-451E-845B-E941872D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A58D1-AD4F-4303-AB7B-81DDD309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5AA97-A9A3-4A64-8C0C-4D7A1A4E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E627D-C31F-4C4D-A6D6-0042BD22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B8B0D-3AC4-429F-BA8F-D22D19D5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AF6C5-FFF0-4A6F-B51F-D0425EC0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FB3E5-FF6B-487A-B577-E9A3BEC6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CD535-AF5A-4282-9F77-DD20D1A6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092E0-A2BC-4115-A1EF-3ECECAAC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A32EC-DCE1-4A76-BFC1-23F57D1B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10C-CF26-4B0D-A2CD-39E41EEA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0D38D-8E56-4CEC-B655-FAD2C7D9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6FB08-C4B0-4244-B99B-CD55D033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9D3D0-8D01-4AD4-ABCC-5DA55F02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6BDE4-3737-4CE3-9825-C4AC5E47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DE3ED-A181-4678-A467-5B44FAAA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B8DED-68A8-47A2-AE5F-2CC67120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CEC37-180E-4319-98A3-57DE7340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4112E-88E6-4119-8F47-24E029EB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98D49-EFC3-4734-81A9-4B9D8FD9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2F6FF-9FCB-4F89-A61F-1BA3A116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BC7-E747-42D0-80C5-92AF1C4C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86883-8049-4A20-A02A-CD13E16B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5DD56-D118-424B-BC52-DAD85BA9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FB09B-A65C-4BC9-AB8F-13483AF6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809DB-0F2D-48A5-9C09-BB2C2C62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07853-EE23-489B-B8D9-1ED1923C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74D49-3C3F-4E95-B1B0-25E6C5B0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7436F-6139-4741-BB5B-A5C190B0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4F008-369A-43DA-B224-2BF5D2C9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32099-B5AE-4FFE-AAB6-F37017EA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A21AB-27B2-48DA-AC7B-C4D0165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048-9D8E-486D-B62D-0432427B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98B7A-8E0B-43B1-89FF-744CF6D1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9746D-3E33-4C1A-AE79-60C92307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3CE01-2398-45D4-8742-3AA9A679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88295-3EC0-4116-BF66-E60BCDE9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73DF7-5230-4D4F-8F38-70E4F295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B53-EFAF-4775-BC37-88768A1B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F3E3-9C7C-4649-B19B-4391EC93444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Егорова З.М. - учитель начальных классов, метод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BC85-48B3-4704-AB30-46AC93EE547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C18C-C502-4E81-8557-3B4BA65F30C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Егорова З.М. - учитель начальных классов, метод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F47B-4881-4746-A0CF-EE2C46DEC8D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60FC-C0D2-4EC9-A0EF-B7650DE910F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Егорова З.М. - учитель начальных классов, метод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7F60-FEF4-4A98-BA90-753E3E66019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AF65-99F6-42AA-B99C-D47DBE98947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Егорова З.М. - учитель начальных классов, метод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062B-BBEB-44B7-9C14-F9E9F11341F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0B06-B344-4577-B360-90016964E0A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Егорова З.М. - учитель начальных классов, метод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A741-D3F0-4842-8116-31FBE1C9DB5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EA19-765C-4ACD-8DCA-0CD4DDE3C56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Егорова З.М. - учитель начальных классов, метод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EB87-B996-4DC9-9535-29B9B830881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BFA7-CF16-444E-8380-D07DDAB8EC9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Егорова З.М. - учитель начальных классов, метод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3819-E408-468D-8DE2-B599200E16A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tandart.edu.ru/" TargetMode="External"/><Relationship Id="rId2" Type="http://schemas.openxmlformats.org/officeDocument/2006/relationships/hyperlink" Target="http://standart.edu.ru/attachment.aspx?id=145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3" descr=""/>
          <p:cNvPicPr/>
          <p:nvPr/>
        </p:nvPicPr>
        <p:blipFill>
          <a:blip r:embed="rId1"/>
          <a:srcRect l="19361" t="40343" r="49313" b="11933"/>
          <a:stretch/>
        </p:blipFill>
        <p:spPr>
          <a:xfrm>
            <a:off x="1071720" y="2428920"/>
            <a:ext cx="3929040" cy="44290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86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итериальное оценивание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в начальной школе.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116000" y="2349000"/>
            <a:ext cx="7407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320e04"/>
              </a:solidFill>
              <a:latin typeface="Corbel"/>
            </a:endParaRPr>
          </a:p>
        </p:txBody>
      </p:sp>
      <p:sp>
        <p:nvSpPr>
          <p:cNvPr id="321" name="Нижний колонтитул 4"/>
          <p:cNvSpPr/>
          <p:nvPr/>
        </p:nvSpPr>
        <p:spPr>
          <a:xfrm flipV="1" rot="10800000">
            <a:off x="5651280" y="4723200"/>
            <a:ext cx="28954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3e21"/>
                </a:solidFill>
                <a:latin typeface="Corbel"/>
              </a:rPr>
              <a:t>Гуркова В.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3e21"/>
                </a:solidFill>
                <a:latin typeface="Corbe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Алгоритм выработки критерие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планировании урока выделить понятия – знать и уметь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делить формируемое уме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ить пошаговые операции выделенного ум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пошаговых операций выделить критер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авить таблицу критерие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иды критериального оценива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1979640" y="1484280"/>
            <a:ext cx="5329080" cy="649440"/>
          </a:xfrm>
          <a:prstGeom prst="rect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ритериальное оцен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826920" y="2492280"/>
            <a:ext cx="3097440" cy="100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Формирующее (текущее) оценивани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5219640" y="2492280"/>
            <a:ext cx="3168720" cy="936720"/>
          </a:xfrm>
          <a:prstGeom prst="rect">
            <a:avLst/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Констатирующее (итоговое) оцен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Прямая со стрелкой 15"/>
          <p:cNvCxnSpPr/>
          <p:nvPr/>
        </p:nvCxnSpPr>
        <p:spPr>
          <a:xfrm flipH="1">
            <a:off x="2770920" y="2133360"/>
            <a:ext cx="1080" cy="36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20"/>
          <p:cNvCxnSpPr/>
          <p:nvPr/>
        </p:nvCxnSpPr>
        <p:spPr>
          <a:xfrm flipH="1">
            <a:off x="6659280" y="2133360"/>
            <a:ext cx="2160" cy="36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Формирующее (текущее) оценивани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назначено для определения текущего уровня сформированности ключевых компетенций в процессе повседневной работы в класс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нстатирующее оцени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назначено для определения уровня сформированности знаний и учебных навыков при завершении изучения блока учебной тем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еник всегда имеет право на ошибк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еник всегда имеет право на исправление учитель проверяет работу до того, как будет выполняться анализ в класс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итель создавая проверочную работу соотносит сложность заданий и их оценива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Шкала успешност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547640" y="1447920"/>
          <a:ext cx="7386840" cy="3047760"/>
        </p:xfrm>
        <a:graphic>
          <a:graphicData uri="http://schemas.openxmlformats.org/drawingml/2006/table">
            <a:tbl>
              <a:tblPr/>
              <a:tblGrid>
                <a:gridCol w="3637080"/>
                <a:gridCol w="37497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0 – 50 %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«2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0 – 70 %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3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0 – 88 %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4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8 – 100 %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5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64" name="Нижний колонтитул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68360" y="980640"/>
            <a:ext cx="8353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чителям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зработать критерии, способствующие получению качественных результатов обуч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ть оперативную информацию для анализа и планирования своей деятельност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лучшить качество преподава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ыстраивать индивидуальную траекторию обучения каждого ученика с учетом его индивидуальных особенносте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спользовать разнообразные подходы и инструменты оценива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носить предложения по совершенствованию содержания учебной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ритериальное оценивание позволяет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чащимс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пользовать многообразие стилей обучения, типов мыслительной деятельности и способностей для выражения своего поним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нать и понимать критерии оценивания для прогнозирования  результата, осознавать критерии успех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Участвовать в рефлексии, оценивая себя и своих сверстни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пользовать знания для решения реальных задач, выражать разные точки зрения, критически мысли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ритериальное оценивание позволяет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95280" y="119664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одителям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лучать  доказательства уровня обученности ребенк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слеживать прогресс в обучении ребенк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еспечивать ребенку поддержку в процессе обуче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ритериальное оценивание позволяет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6000" y="105264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</a:rPr>
              <a:t>Перспективная цель </a:t>
            </a:r>
            <a:br>
              <a:rPr sz="3600"/>
            </a:br>
            <a:r>
              <a:rPr b="0" lang="ru-RU" sz="3600" spc="-1" strike="noStrike">
                <a:solidFill>
                  <a:srgbClr val="572314"/>
                </a:solidFill>
                <a:latin typeface="Times New Roman"/>
              </a:rPr>
              <a:t>критериального обучения -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258920" y="270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Times New Roman"/>
              </a:rPr>
              <a:t>достижение полной ответственности обучаемого  за процесс и результат непрерывного самообразова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рмин «оценивание» относится к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юбым формам деятельности учител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учеников, оценивающих самих себя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еспечивающим информацию, кото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я может служить обратной связью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позволяет модифицировать процесс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подавания и уч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лэк П., Уильям Д. (1998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тератур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ормирующее оценивание: оценивание в классе: учебн. Пособие/М. А. Пинская, -М.:Логос, 2010. – 264 с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истема оценки достижения планируемых результат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своения основной образовательной программ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ачального общего образования в «Школе 2100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(технология оценивания образовательных достижений (учебных успехов) 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Д.Д. Данил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иагностика учебной успешности в начальной школе" (Под ред. П.Г.Нежнова, И.Д.Фрумина, Б.И.Хасана, Б.Д.Эльконина.- М.: Открытый институт «Развивающее образование», 2009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истема оценки планируемых результатов освоения программы начального образования (</a:t>
            </a:r>
            <a:r>
              <a:rPr b="0" lang="ru-RU" sz="20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standart.edu.ru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›</a:t>
            </a:r>
            <a:r>
              <a:rPr b="0" lang="ru-RU" sz="20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attachment.aspx?id=145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ланируемые результаты  начального  общего образования (под редакцией Г.С. Ковалёвой, О.Б.  Логиновой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6" descr="C:\Users\user\Documents\Новая папка\1 Б\Фото-шк\1 Б\SS106010.JPG"/>
          <p:cNvPicPr/>
          <p:nvPr/>
        </p:nvPicPr>
        <p:blipFill>
          <a:blip r:embed="rId1"/>
          <a:stretch/>
        </p:blipFill>
        <p:spPr>
          <a:xfrm rot="905400">
            <a:off x="4500360" y="2133360"/>
            <a:ext cx="4319280" cy="3887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СПАСИБО ЗА ВНИМ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C:\Users\user\Desktop\фотографии\Фото-0182.jpg"/>
          <p:cNvPicPr/>
          <p:nvPr/>
        </p:nvPicPr>
        <p:blipFill>
          <a:blip r:embed="rId2"/>
          <a:stretch/>
        </p:blipFill>
        <p:spPr>
          <a:xfrm rot="21149400">
            <a:off x="1362240" y="1735200"/>
            <a:ext cx="4103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и  критериальном подходе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ценка осуществляется в соответствии с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раметра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итерия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казателя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Нижний колонтитул 3"/>
          <p:cNvSpPr/>
          <p:nvPr/>
        </p:nvSpPr>
        <p:spPr>
          <a:xfrm>
            <a:off x="601200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95280" y="83664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Критериальное оценива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– это процесс, основанный н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сравнени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учебных достижений учащихся 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Narrow"/>
              </a:rPr>
              <a:t>четко определенными, коллективно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работанными,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заранее известными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сем участникам процесса критериями, соответствующими целям и содержанию образования, способствующими формированию учебно-познавательной компетентности учащих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Arial Narrow"/>
                <a:ea typeface="Calibri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итериальное оцени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02920" y="1773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мысл критериального оцени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ключается не в отказе от отмет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итериальное оценивание позволя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енику планировать свою учебну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ятельность, определять цели, задач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ути их достижения, оценивать результат своего тру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</a:rPr>
              <a:t>Принципы критериального оценивания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териальность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ритет самооценк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бкость и вариативность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енность процесса контроля и оцен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</a:rPr>
              <a:t>Функции критериального  оценивания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7724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 процесс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тная связ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ение и осознание степени соответствия целей и результат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ие текущих затруднен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психологической комфортной образовательной сред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актическая значимос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ценивается только работа учащего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 учащегося сравнивается с образцо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щемуся известен четкий алгоритм выведения оцен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ценивается только то, чему учил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Нижний колонтитул 3"/>
          <p:cNvSpPr/>
          <p:nvPr/>
        </p:nvSpPr>
        <p:spPr>
          <a:xfrm>
            <a:off x="6012000" y="5661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434960" y="1447920"/>
          <a:ext cx="7499520" cy="403380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чественно – эмоциональное оценивание (сентябр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дительское собрание по теме «Система оценивания. Критериальное оценивание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воение компонентов учебной деятельности – контроля и оценки (октябрь – декабр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менение критериального оценивания  (формирующего и  констатирующего) на урок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ведение прогностическое и ретроспективной оцен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344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2:22:55Z</dcterms:created>
  <dc:creator>Я</dc:creator>
  <dc:description/>
  <dc:language>en-US</dc:language>
  <cp:lastModifiedBy>вика</cp:lastModifiedBy>
  <dcterms:modified xsi:type="dcterms:W3CDTF">2015-01-15T05:05:50Z</dcterms:modified>
  <cp:revision>79</cp:revision>
  <dc:subject/>
  <dc:title>Организация критериального оценивания в начальной школе</dc:title>
</cp:coreProperties>
</file>